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CCD1-39DA-478B-8D71-25ACEEE7F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B565-1FA4-4C71-837E-EADD7675E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4F2F-5594-42E7-821F-63B26FC07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F4C0-A70B-4C5A-9AAF-9CA67D877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0F1EE-5422-449F-A06E-81B358744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763CF-D45E-4AF9-9D2B-D52CC3DC2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7872E-3528-4C23-9488-8471B9D9F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40C9C-7316-4DAB-BAF6-FDF95AC6B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CACB5-C8DC-444B-9B8A-65196EFB9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EFA37-5E50-4D92-B7F0-18A825AD3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FA521-E5A1-4923-80D5-313EC9BF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5F88-D927-4F08-A1AC-D0E977B2C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EEDD6-172F-45F2-B90E-FF2D5EFB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0FB3C-7DA2-41AC-8DB4-5474BC03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FA4B8-7E7E-4C2F-8816-B8B87F35A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A607F-716E-4FC1-81BB-9A305F8FD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9A075-567E-4232-A49D-5CCF4A080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B2E9-C5DD-4DAF-B5C9-0E9A28C59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AF36-18E4-4AE7-8042-C6A97996B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4E7F-E2F9-47BE-8163-D90E05E48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10DE-8FD2-43F7-A784-BB381A3B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EF3A-6007-43EB-8E38-62C2AB10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332C-435C-44B7-A9DF-6104A975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0781-22D3-4539-AB46-2BD2E599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4A2EE-6155-4058-831D-A21C530483F0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194D6-FF74-4491-ADB3-D40476C099A0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ahoma"/>
              </a:rPr>
              <a:t>PSICHIKOS RAIDA</a:t>
            </a:r>
            <a:endParaRPr b="0" lang="en-US" sz="4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Psichikos ontogenezė ir filogenezė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Žmogaus raidos periodizacija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E.ERIKSONO PSICHOSOCIALINĖS RAIDOS TEORIJA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ahoma"/>
              </a:rPr>
              <a:t>Saugumas – nesaugumas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 (nuo gimimo iki 1 metų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ahoma"/>
              </a:rPr>
              <a:t>Autonomiškumas – gėda, abejonė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 (1-3 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ahoma"/>
              </a:rPr>
              <a:t>Iniciatyvumas – kaltė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 (3-6 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ahoma"/>
              </a:rPr>
              <a:t>Meistriškumas – menkavertiškumas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 (7-11 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ahoma"/>
              </a:rPr>
              <a:t>Tapatumas – vaidmenų neaiškumas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 (paauglystė, 11 – 20 m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ahoma"/>
              </a:rPr>
              <a:t>Intymumas – izoliacija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 (jaunystė, 21 –2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ahoma"/>
              </a:rPr>
              <a:t>Atsinaujinimas – sąstingis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 (vidutinis amžiu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ahoma"/>
              </a:rPr>
              <a:t>Integracija (pilnatvė) – neviltis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 (senatvė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1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Raidos KRIZĖS 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Jautrieji individualios raidos periodai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ns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v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ūs perioda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Krizės esmė – poreikių, kurie kyla kiekvieno amžiaus tarpsnio pabaigoje, nepatenkinimo rezultat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Ypatumai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Tahoma"/>
              </a:rPr>
              <a:t>1) sunku atskirti krizės pradžią ir pabaigą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Tahoma"/>
              </a:rPr>
              <a:t>2) mokykloje krenta bendras darbingumas, konfliktai su aplinkiniais, konfliktai viduj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Tahoma"/>
              </a:rPr>
              <a:t>3) šiame periode vyst. būdingas negatyvus charakteris, vyst. atlieka tarsi griaunamąjį darbą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ahoma"/>
              </a:rPr>
              <a:t>RAIDOS</a:t>
            </a: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 KRIZĖ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1 metų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3 metų (Aš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7 metų (perėjimas nuo ikimokyklinio amžiaus į mokyklinį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aauglystė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Vidutinio amžiaus (api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0m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Senatvės + šeimos krizė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Paauglystė ir jaunystė 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ahoma"/>
              </a:rPr>
              <a:t>Akceleracij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ahoma"/>
              </a:rPr>
              <a:t>Infantilizma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ahoma"/>
              </a:rPr>
              <a:t>Didėja sugebėjimas abstrakčiai mąstyti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ahoma"/>
              </a:rPr>
              <a:t>Padidintas emocionaluma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ahoma"/>
              </a:rPr>
              <a:t>Psichosocialinis moratoriuma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Filogenezė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– rūšies istorinė raida, psichikos atsiradimas ir raid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Ontogenezė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– žmogaus raida per jo gyvenimą. Individualus organizmo vystymasis. Ją tiria </a:t>
            </a: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raidos psichologija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FILOGENETINIS PSICHIKOS VYSTYMASIS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8281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ahoma"/>
              </a:rPr>
              <a:t>Kinezė</a:t>
            </a: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 –organizmo bendro aktyvumo pasikeitimas, veikiant kuriam nors aplinkos veiksniu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ahoma"/>
              </a:rPr>
              <a:t>Taksis </a:t>
            </a: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yra kryptinga reakcija į konkretų aplinkos reiškin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ahoma"/>
              </a:rPr>
              <a:t>Nesąlyginis refleksas</a:t>
            </a: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 - atskiro organizmo lokali reakcija į išorinį ar vidinį dirginimą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ahoma"/>
              </a:rPr>
              <a:t>Instinktas</a:t>
            </a: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 - sudėtingiausias paveldėto elgesio komponentas, jam sukelti reikalinga vidinė parengtis.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ahoma"/>
              </a:rPr>
              <a:t>Pripratimas</a:t>
            </a: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 susijęs su viso organizmo ar atskirų jo dalių reakcijų silpnėjimu ir išnykimu, kartojantis nereikšmingam arba virtusiam nereikšmingu stimulu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ahoma"/>
              </a:rPr>
              <a:t>Klasikinis sąlyginis refleks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ahoma"/>
              </a:rPr>
              <a:t>Instrumentinis sąlyginis refleks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ahoma"/>
              </a:rPr>
              <a:t>Intelektinė veikla </a:t>
            </a: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įgalina orientuotis naujoje situacijoje, išskirti esminius jos elementus, numatyti įvykių eigą, sudaryti veikimo planą ir jį įgyvendint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200" spc="-1" strike="noStrike">
                <a:solidFill>
                  <a:srgbClr val="330033"/>
                </a:solidFill>
                <a:latin typeface="Tahoma"/>
              </a:rPr>
              <a:t>Raidos periodizacija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000" y="1483920"/>
            <a:ext cx="8002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Prenatalinis period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Kūdikystė (nuo gimimo iki 1 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Ankstyvoji vaikystė (1-3 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Ikimokyklinis amžius (3-6 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Jaunesnysis mokyklinis amžius (6-10 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Paauglystė (10-16 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Jaunystė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- vyresnysis mokyklinis amžius (15-17 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- antrasis jaunystės laikotarpis (17-20 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Bran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- pirmasis laikotarpis (21-35 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- antrasis laikotarpis (35-60 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Pagyvenęs amžius (60-75 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Senatvė (75-90 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Ilgaamžystė (90 ir daugiau metų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PSICHINIS VYSTYMASI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sichinis vystymasis – pažinimo, emocinių – motyvacinių procesų ir asmenybės vystym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Žmogaus raidos aspektai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Fizini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Kognityvini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sichosocialinis aspekta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Kūdikystė (10 d. – 1 m.)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ahoma"/>
              </a:rPr>
              <a:t>Sensomotorinis intelektas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 (Aktyvumą skatina įvairūs fiziologiniai poreikiai, pasaulio pažinimas vyksta per jutimo organų lavėjimą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ahoma"/>
              </a:rPr>
              <a:t>Kalbos raida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: čiauškėjim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ahoma"/>
              </a:rPr>
              <a:t>Psichosocialinis vystymasis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: šypsojimasis/juokas, verkimas, emocijos, temperamentas. Prieraišumo formavimasis (J. Bowlby, Lorencas, M. Ainsworth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Prierašumo charakteristikos </a:t>
            </a:r>
            <a:br>
              <a:rPr sz="3800"/>
            </a:b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(pg. J.Bowlby)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Artumo palaikyma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Saugus “roju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Saugi platforma/bazė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Išsiskyrimo nerim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813744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Vaikų intelekto raidos stadijos </a:t>
            </a:r>
            <a:br>
              <a:rPr sz="3800"/>
            </a:b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(pg. J.Piaget)</a:t>
            </a:r>
            <a:endParaRPr b="0" lang="en-US" sz="3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8200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1800" spc="-1" strike="noStrike">
                <a:solidFill>
                  <a:srgbClr val="000000"/>
                </a:solidFill>
                <a:latin typeface="Tahoma"/>
              </a:rPr>
              <a:t>Sensomotorinė stadija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(0-2m). Vaikas turi refleksinį elgesį, jį po truputį keičia sudėtingesnė veikla. Su aplinka susipažįsta per jutimus, judesius. Savęs dar neskiria nuo aplink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1800" spc="-1" strike="noStrike">
                <a:solidFill>
                  <a:srgbClr val="000000"/>
                </a:solidFill>
                <a:latin typeface="Tahoma"/>
              </a:rPr>
              <a:t>Priešoperacinio mąstymo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(2-7m) Vaikas pradeda naudotis kalba ir simboliais. Mąstymui būdingas egocentriškumas, jis negali suprasti kito žmogaus perspektyvos. Pradeda suprasti loginius ryšius, sugeba skirstyti objektus į klases, įsisąmonina tvermės dėsnį. Ryškėja simbolinis mąstymas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1800" spc="-1" strike="noStrike">
                <a:solidFill>
                  <a:srgbClr val="000000"/>
                </a:solidFill>
                <a:latin typeface="Tahoma"/>
              </a:rPr>
              <a:t>Konkrečių operacijų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(7-11m). Vaikas ima suprasti priežasties-pasekmės ryšius, suvokia laiko, kiekio, masės, ilgio sąvokas. Mąstymas išlieka konkretus, gali suprasti tik veiksmus su konkrečiais daiktai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1800" spc="-1" strike="noStrike">
                <a:solidFill>
                  <a:srgbClr val="000000"/>
                </a:solidFill>
                <a:latin typeface="Tahoma"/>
              </a:rPr>
              <a:t>Formalių operacijų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(11-14m). Mąstymas logiškas, mokslinis (t.y. keliamos hipotezės, jos tikrinamos, siekiama tam tikrų tikslų) naudojamos abstrakcij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1800" spc="-1" strike="noStrike">
                <a:solidFill>
                  <a:srgbClr val="000000"/>
                </a:solidFill>
                <a:latin typeface="Tahoma"/>
              </a:rPr>
              <a:t>Postformalių operacijų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(14 ir daugiau m.) – pats autorius neskyrė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8T13:25:21Z</dcterms:created>
  <dc:creator>vplc</dc:creator>
  <dc:description/>
  <dc:language>en-US</dc:language>
  <cp:lastModifiedBy> </cp:lastModifiedBy>
  <dcterms:modified xsi:type="dcterms:W3CDTF">2007-09-12T21:49:38Z</dcterms:modified>
  <cp:revision>21</cp:revision>
  <dc:subject/>
  <dc:title>Slide 1</dc:title>
</cp:coreProperties>
</file>